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0EF3-5B51-4291-AD3E-52205C1B5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BE42-C6DC-4D54-9E41-DE88D599CE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4AC9-C277-43F9-9B2C-D3BCFD8EEF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388E-F939-4D7F-8096-2AE9E79A34A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5F26-7D78-4C00-9051-ADD649B4093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44B0-56B6-4ABE-84CB-61AB6EEB96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63E3-E3A8-476D-B307-94D0487C60E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365D-A58B-4C6F-8291-EA277334186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089F-6648-45BC-A857-2DED172BF44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A30F-4EF8-4871-AC40-7038A769F0D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0249-2BC7-4989-A227-7F6F5F96648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725B-84E6-4410-8531-028250DAE13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767D-2B40-4C1D-8AB1-E6325C5CDB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A79F-4D0A-407D-9B65-437FC5DC168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E249-A0E9-4395-A1DC-4791E738AB9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D5FE-5F1F-435A-A6AF-38F7F9C9EC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00E1-7A4B-4999-8923-00978AEA2CF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F6EE-D7CF-4D3E-8A05-391247607EF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0FDE-4A5D-4039-BE90-06EF71836EC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2F5F-1109-4E57-9F59-073D0288DE5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9F0F-6F63-4369-9DB8-09FFBF67666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6FBE-AFB6-4426-9058-42E539A2745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21CB-4706-4569-ACD8-406341A1695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6ADA-3431-4B13-BE8C-511B9EA2133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F401-0CD6-4949-8A42-C84AA44F32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3B41-5817-472A-8B1B-20C6EFBA6D5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2ED5-A296-4A28-BA3C-88718C321CA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04C2-95CF-4BDE-B36D-001A80CC87D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7667-1C9D-4122-B7D5-F18703CC066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103F-8DE4-4F3E-A95D-7FB63B25606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6DF2-DF6C-454F-BC93-A734A3C806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3EB4-C173-4A53-A971-80BF6FB1D82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57B9-E6A6-4E77-927A-BDDB7265954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9FD9-14FB-4C3B-9CBB-B8603AC3B9A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3E6A-0AA0-4716-B7F6-984DEC68C8F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F5E3A-900F-46D8-A235-765E0864F0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D070ED3-CE74-473E-B55F-9A0D678EE42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43594C8-A1EA-418A-A3D7-70C9CC1A10C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77557F59-BF62-4A4B-8E36-F2048B32E26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D778866A-469E-4945-9D97-80E20446D1B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179C773-6F1B-4733-A689-2DAE26C147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C8523B8-FA19-44E6-B30C-11A0FFF5DCB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1247234-1685-4125-A06A-C3DE5430B71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A8AEE93-F6EB-44D6-9839-23E9A2241D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6C7987C4-ACFB-478E-9462-1A4595EDF18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4BB6DF5-8E2F-46EA-A384-AF8D2CF5D5A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1147556-BC82-4492-AB1E-8EAB79428B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055A0885-ECA1-4199-BA3E-A042B47F66C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2068A8B8-E443-4242-90A6-BFF08856319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11341E6-60C0-4FCB-B968-A47F21F0683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350904C-078D-42C7-9AF2-84E83970067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289855AD-E71A-4FAC-8C3E-CA09197EC09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C44B7C4C-BA8A-4570-B98C-677665EF344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42A6F87-FAEC-453F-AC62-3160A4F8583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E9C35E3-0DF8-4D55-8C15-9FFA1659E2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87B17D1-21D7-4386-A626-C2D4A4642B4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1336FB9-B7B4-4A93-9D89-C56E754A56B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5038CB1-19D7-4857-8B0D-5AACA56DB0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7A0632BA-E5E2-46ED-B817-69BEA769C9E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920692A2-206F-4304-BD17-3C6067E8093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A7CEC15-B078-41EA-A905-44255366F1C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60AAC74-CB4F-466C-AF15-EAF9AC2ADEB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7BBF7D8-87E6-4886-A35C-09896E8C23A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A875ADE-7DE0-4CFD-9886-B0178333A0D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155D5465-C6FC-439A-B927-D68D3546C7D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E865AA12-71AB-4FC7-893D-50C4A9ADF03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5443EB4-2C76-46F4-8326-0D90B128559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5F2D5DE-88A0-4202-9AB2-353A167C9AF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20D24CB-771A-4896-9FDF-DD7D25FEE6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1419AA-CB98-4877-8CAB-FD4BF242961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849A3A1-678C-4A8C-9275-5C7D5B29A6C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10A10B70-8D48-431E-A6AF-C51994824F4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D6D7424C-52F9-405F-A612-8AC168A09ED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6D7B641-EA9B-4BF4-864A-E099084161F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A25797D-F286-4133-A077-785D70A5F3E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2B93BFF-2C5C-48FE-93E9-97A67F4327C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1AC8351-233E-4650-82E1-AB56FACF3D8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2B6EE17C-2E8D-42B9-AD4B-54D63696F5B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8AB4E72-B2EA-417C-968A-02EDA917041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F32D92C-3D4D-444C-A915-12D1433BFB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283CE68-D792-42B4-8B28-AC13823EF5B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6482E74-392A-4A5F-9F98-AF1BD422CB9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C54FFBF-443C-4196-B34E-4523E3D4597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C954DF2-2F49-41AA-A34C-64E96F82EDE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E864B2E-DE70-4867-9D82-13E2B05D900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228C3CE5-3058-4A73-96F5-88C25C7A780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8902958-0180-4F5F-A62D-BE12F934AC6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608C742-1392-43D8-810C-6C5DD30C286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55A3100-DDCB-4E5D-B5BF-B6553210A66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0002589-5F49-4472-8086-22B06B18DCB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B8BD5A89-5418-4A16-B4B2-258BD2656B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AC0F5AD-7462-4ECD-BF1E-6823E8849A2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B6198690-45C8-4DBB-9AC5-84EFE51813B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8AE75D4-88F1-4CBA-AF15-6B9F3EEA3C9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F7FD2E9-01A6-48C6-8129-D1E0CCDEBDC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0292631-B912-4D82-A51F-E82F0EF1685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33F0C3BD-BFE0-4623-8F16-1F00288E5A2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7497DA9D-556D-4399-8FA5-F231508C216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6222857C-9FD5-45D3-9A89-972E982C411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3BB6154-A2B2-4F37-86EE-FF0B9646501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721F90D-F7F2-42DE-AF7E-5888094AE11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E832E6D-802F-4017-A157-4D01C6EFE3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AF05708-4974-4F3D-AA90-3829A3300E7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67F5844-DDEB-4845-ADD1-51C87E423D7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6754B26D-7B73-45FB-8188-34E50F0CFC9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7BECF31D-42A3-447D-9DA6-ED63A8A8C47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B484688-8ABC-4044-B87A-324F3951CE6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4A0E45F-638D-4507-8B84-55E623ABAC8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7735284-AE28-4F05-AB62-6F870E87434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364E673-DA4F-4823-A8B5-C0DDD8DC759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F8EF131D-63AD-489A-906B-3E57493E695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5FAAADF1-C8A9-41B7-B414-29A86DF8FA8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1376CD7-87ED-4FD8-A40E-3B02A2ECF5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81AA81B-902C-4F54-BC7F-DB2B2D44B0B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635F117-AA88-4A42-871D-DB4B4FD52D5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1C1B9225-2427-4955-AB01-80E40D9A89F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BE9B97F-C548-4C0D-A2BD-6D124D796F8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1334F7FC-EBA5-4C7B-B5AE-34904242485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A4258AD1-57D7-49D3-98B7-D92FDAB0869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2880A4C-3115-4F97-9FD2-971918DAB63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85E9F8F-9006-4769-81D0-773CDE4FCCB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8110756-3C90-4C16-ACD8-B4DC760483B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2D1A5E24-D261-4512-94CC-DFE007223A5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5F2AC2A3-02D2-4CBD-A3F0-613438B487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ACBBF550-DA22-49EC-AAF2-3566052F9C3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5E21DEC5-86FB-4282-ADBD-67FDD1857FD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61B7B89-6DCD-4136-A0D1-D5A7C41A781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E5D249F-FF7E-488B-855F-E9DBB8B0953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477E962-5E56-488C-B9ED-CA0C359631F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DA7F6EE-4D4B-487B-9C0E-800CEA25E66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EB3E2B8-34B3-4281-879C-D8FDEC50F62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0C54148F-F92A-477C-A3E5-9B77EDE17BD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435CC0D3-0E30-4E3B-949C-09C0F824670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6E420EC-2270-4101-A294-6FAEDB8C2F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0E7C5E2-CE83-41F4-BA36-29BA929C7C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778440E-E765-4C93-9795-7324C8BB70EF}"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D197FDC-FB5A-444E-8235-E1ED9601078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8258590-1F9E-42F1-AAF2-9ABB5B515E4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EF0EC85-BE28-4C8F-84EF-0B791AC84AE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8119BB8C-08B5-40B4-B23F-1022EDF222A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27CC6BD0-FBCA-4EC7-BD66-0DEFB753C17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62D3976-F823-4636-80CC-629F4707EA23}"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0EEB9BE-7E30-4811-AE9A-7C91E798318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C1EE07DC-7C58-4B99-ABD4-85DEB75C79A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AE6D3914-6C66-41F6-B855-F3FA461E30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5B86CB1-738C-429B-A131-8A0018C3E6E8}"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17CBE1DC-6911-4B2F-9F4A-83167DC7665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33C0E284-D234-4002-AAD9-673B0B1D8F6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BBAA4275-8D7F-47C6-8908-7CD8156F3DC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75A88D9-CDE2-4EA4-B7E1-601E6C51B3F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DAEC9F4-7D60-4752-B056-4A48008B669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8589B87-2A78-4B52-B3DA-56780B5137D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557EBF8-109B-433F-B2A1-E873E0296AE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11DF524D-E124-4344-957A-040600DA255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A9458F7E-AC60-4A9F-B83E-D73A93097FC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160DAAC-39A1-4527-A0A7-4DE94F90FB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8DC06B5C-4D7E-4036-B872-8709F07273DE}"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CF4DEAA-C1F8-4A1E-8F6A-761FC5C02ED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878FBF4-0A74-4E90-A2DA-F87A61D47D6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77F78A2-07A0-4480-A4CF-476EA2D8E70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B8EF630A-E2E1-4CC9-A06E-A85FD5BC270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E25D7FAA-D091-45FF-9BC1-F8817B54F01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56D4E34-CC36-4956-BC5A-B69F3807020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F91FD30-F0FE-4660-B857-E0021381785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DDFC7AA-33FE-4AAC-AAB0-1821D53B3E5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332D0A0-B636-4F2A-A7FA-9AAAFCE96E9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E7841A71-85EA-4247-8CF4-67238E1404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9C3EBFA7-3F37-459A-A765-D48F9DCE34E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0E516EC8-637F-4096-AEE7-DF42CD80068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D0C046F-E085-4767-9278-B4A10673AF5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83D85A0-E391-4160-BA46-C6AA2894B85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18482AC-F5DC-4E03-A258-C617CFF6CCC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EDC6ADE-65FD-4A8C-A29E-F9C05275CE9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834824B6-6D3C-46FE-9F41-F120DD42F42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BFB9C658-DBCE-4DA4-B005-ADBB49D95D4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24B911D-E431-4B9C-AA24-6AF60F3C83E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D82C43C-07AC-464C-8F39-B1D530179B3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BD01664-1771-4A11-B89E-C9FF08E4A6D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A27547-DAE1-4224-A1DA-26F9E688D2D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E0AE067-363C-442F-8DF2-EC2C92ADE0F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CABCD9BA-B55A-4842-AD47-73F23E4BC82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52AC0206-C70F-4425-B4A1-D519354F787D}"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040ED63-2E38-4AD2-A609-627B568D1A4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7456798-CB75-4706-A2E5-E43C15BF35B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608BD1E-8D43-4E64-826E-E888940636F8}"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F0A6A39-6A24-4DF3-B13D-C222C24922E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1E508875-5168-42D7-85B6-872EF8B2FB4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1A421C2D-47A0-4B9F-BA6C-43C26BB3546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A6F77DF-4991-448F-A3AA-707FA44916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EF8E6A2-CF35-4F8C-BFC9-C4A9BFBF7B3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28B8971-F448-4F0A-891D-79371C80DDF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D111500-538D-44A2-9432-CBE52C45EC4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19E1CE7-4AF7-447B-8FB7-CC86D70173F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7EC07873-6958-4462-9378-FA954E4C778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8D875741-269C-4FF0-825D-BD452342C94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E90A1AB-98DC-4916-9521-5A9B1B65BAD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8653969-E0A8-4D58-A010-2D5E3B77F56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431155A-36DF-4F6D-8F6C-B5275B7A610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C65B81D-4A22-4314-85BE-7E3BFFC595A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7E6C9B1-8CC7-420D-8FCD-BCC5627535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5163368-094C-481B-A98E-58E06F91F70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90A3E413-A1BE-4BEB-BFA6-B7382A9E646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C2D8F53-DDC9-40EE-B304-C4D60B9B336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3605096-6B33-4F4C-A874-345C1D1AFE8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C0FB4D0-88DC-4DA4-A5C8-5D016B2D671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C456865-F1B5-4AB3-AB3A-D33884A1B245}"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590662BF-1355-4E7E-A439-9B859403B5D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7AABAAE4-55C7-4F3A-99C8-02F514019B6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B194B57-368C-4BA4-86C3-49AA084B6154}"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EABD5760-13FD-4BA9-B33D-91A63B249302}"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73BA4EC-7C1D-4F53-A327-94CD3EB32E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0907E2C-367E-4033-B7D4-D70E3010C371}"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D337BC6E-3BA2-4B07-85BC-9F6D296EED0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0A879C1A-FD30-45CE-A50F-B9A9B6B2E457}"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7FA34CAE-365D-45A9-B85A-D524FCCA8B53}"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8EEE717-6F64-40F0-8345-3DEFCDB07247}"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93B5954-05FA-453B-A3AE-06CDD251A3EB}"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A2333DD-F0B0-4BA0-A841-3EE148E5B1F8}"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97D8BBE8-BDFF-400D-97AC-9A61D5A1B0F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F7410887-01F6-4A33-A3C9-F141FEB4BCAC}"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235A43D3-2271-4850-BE04-4A951049421B}"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7FAD4CD-81EF-4689-A526-61468D8435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42C087BC-F2AC-4051-AEED-3D4A4150581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0FD400BC-8573-43B1-B73E-7FE987AD9AF1}"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89E4AF2F-D91C-4BF5-9ED7-9A7D2F048B3E}"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942BA3F4-9B50-4519-A994-961E98833108}"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2E6639A0-12C8-45AD-BC8C-413DDEE30AEB}"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3DC459BD-6165-49CA-BE21-391650F04D42}"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8ECDA381-FBE8-4137-A336-F8D7D2F2FF42}"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BE535FE4-8684-45CF-9480-A9344847872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7435A015-7223-4CDF-AA0F-A83C22907A21}"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6F5ECEAC-1B82-411C-A236-F326B2F64B8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6812228B-ADA5-4DA7-9231-B8FA2B453D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4E4FE9A-B8D4-4BCB-86E3-7F05AA6092A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5C809228-F880-45C5-8AF8-86979053D3CA}"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AD9ED705-9EC5-4B04-92DD-899EAD71967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F5C0EAF-4DB4-4741-B424-84C50F1AC67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621BFBDC-812F-4177-A0DC-42B119B3A9E6}"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B738E197-0C1E-431C-B388-78377A68E3BE}"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92DE57E0-89AB-414E-98A4-E1C69B97C3FB}"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75F5BA90-AE3B-45D9-A741-AB063B49A511}"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1DEE1EBB-2C3D-415F-8D98-16AA7938DE76}"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2048732F-5C10-4A2F-A054-54B183C4E53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62E49D4D-4D90-4D3B-A8FA-8947019CE436}"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9AEFC700-4885-44B9-9ABA-91CF3A518C5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9E74FD8-B9DE-45DD-9199-97EC6BED081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336D33D6-9C52-4C14-A9F6-990E49D7277F}"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FE9D70E1-C2CF-42C8-B1B4-0618726AC595}"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F1B34A4D-8714-4A93-B9CD-09493915B88C}"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9952BFB-E5B9-4DEA-8D67-6EE6F9C6DD39}"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5A323906-5D88-461B-B7BB-BF6471132E38}"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1314CDEE-F7B4-4564-8D91-20E75B735437}"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64E97914-FE9C-4325-AA07-9E4A15ADDE6C}"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32488147-BA32-429D-A856-F4B62CC78E7B}"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3D077BB8-68D4-47AC-B101-E2D8D9BF5F1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A17910E-2863-419D-9330-740392B03878}"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51467307-C655-4878-9228-843E7CE97610}"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F8D626D3-713C-47F0-8AE1-BBB470B0633D}"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8DA7AE4C-D746-4824-B9C5-2E6D5F7D1019}"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2B4175D8-707A-4053-AC44-44AC8B67FE96}"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CE2D9F5B-C614-4EAC-A6D5-B74141AF1410}"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645E8B32-AA37-42AC-B73E-CFC8B124CB4D}"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CC50E16A-84A3-43D2-A2AD-7E23DE70C48A}"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EF5C8D7-1DDE-4535-81A2-6F16D11052BE}"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26C502A-0F7F-40CE-A60A-9F001E7C9C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9A87DB84-7C33-4581-B56F-D318E709D8B1}"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EB08F9F8-6131-4599-8ACE-E49159793C37}"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7D461D0D-0B22-4444-B039-E65634FA82D2}"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210145E9-FE8D-4915-9667-FF805D3991BF}"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41E58612-DAE1-490C-86C7-F92405FFA5D8}"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87311B6E-A6E1-4664-A54A-B23F6493E1FA}"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BD21A368-982B-4F5D-8BD9-452677E8F106}"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493F95A5-8680-48E7-9999-7CD35417C1A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7C804A51-15F0-4745-92E4-6BE00A6E5A3F}"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4274C1FD-4878-4976-A3F2-6FC16A9DC425}"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6828DD44-286C-4DB7-8D6A-364CD730EB5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84C880E5-2290-4A85-BAF9-8CB75B76625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BF8757F5-2A74-4E97-B684-A1702B4768FD}"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3DC6936-4111-4E14-AC3D-5CBE759C2417}"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ED7B1880-0737-48BD-A3E5-C196E0B01CE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A2CA756E-CD1B-4001-82FA-D9C78359D1F9}"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EDA55D8A-1CFF-4070-A141-13EDE2317605}"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21D28B88-2B73-4341-8CDE-FCBC44897DEB}"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8E3B6D1F-D093-4844-87B6-5600BCC6CEE6}"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A6989C02-64F0-4F39-BC9D-6E95AA26EAF5}"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45DB8BD2-B033-4CD4-8178-32ACC18AE66C}"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B228C2D6-7676-460B-A983-A6DCE0D75E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63F69A07-8564-43B0-AF8D-5FC2737A75D7}"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5B0E9965-4361-4204-A683-F1EB31BC2220}"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8129D861-EFC3-414F-9FAD-E2DDA62A84A2}"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868E079-3CCA-4038-AD65-4205FAAB913D}"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0AFC3408-8566-44E0-A923-A6AD26CBE7E0}"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8F5CF918-6534-45F4-85EF-FC0730051399}"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58D97EB7-78AB-465E-8308-25F082401695}"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66984B01-C10F-47CA-9E0C-CC35F501D5A8}"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B72FB284-2FD2-4FC9-BE8E-6E49F53C8D99}"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4276F6CB-5F1B-4720-817A-9C709A5884A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21511D9B-CBE1-4A34-80A6-01D3BCD38230}"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59D9ECF0-505C-4F74-B316-5CEE60BADAFC}"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0532BD7A-4F6A-44FA-A2B0-27AF253C7348}"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C70B24BE-C965-41A8-BBCB-FEDC2CFE110E}"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BE4ABA64-0F4C-4B77-BB38-0B348A71A8A4}"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80518375-6D0F-482E-972A-8A3B95A9BBC9}"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45AC5DD3-0F8A-4607-9E4D-13C6A6110848}"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D351EFF4-C75B-458D-B61A-50B16121FC98}"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F40516E6-038E-4487-A336-23A7E6F45D61}"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592420BB-112D-4316-9D00-AE5D6FADC8E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C4CF5F42-5249-4F98-8E78-E185CB1F996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72686D02-7C81-44C6-B0ED-7899764D99A7}"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7C2AA54A-E852-4725-8E57-B47034274465}"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08ADA008-8752-4FC8-B2D9-1A334FB48DB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7CF96ED3-619F-448E-9E02-13789609270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C4873FC4-E267-4DB9-BB0E-E8E6A0D212CD}"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1D651110-825C-4E66-B6AB-1D5B54549D4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59CB822-41CF-4D33-85B6-7B63DC980B93}"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59C0E519-804B-4EF8-80E5-C3814509EE72}"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317793DE-F5CC-40F1-A44F-10F81EA838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73069DA-923C-4E12-9D7B-CF65F90518D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4DDA3CDA-1FEC-4DF7-BA59-FC64312BBD5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B87AD7BB-0A2D-430F-A687-589DD6886484}"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272350A7-BDC5-447A-9F62-1361088FABC1}"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082FF48C-4C88-411C-865D-65632AA7CD00}"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6D0D9E7A-94C7-4C50-8214-C9E138B6615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A9BEDEE1-DC3B-470C-8385-FC416F5BB001}"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DCAD9071-3A56-4BBF-AF59-E0F207F76AE7}"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AA8ABF72-8AB4-41D3-94CE-16D85630C281}"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BBF7C01B-FF13-42F0-948C-2393F71CB50E}"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E0BB093E-E74E-41BA-9509-3CDDCAA3C8E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8D402046-EB5D-4E98-8965-A4AFBD52B68E}"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1AAE172E-8BA8-405D-8E60-A72F29DDAB67}"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A4E2ED30-CD80-4810-9D88-1BE5C5221C19}"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53567822-082D-444C-98C5-374B5787D400}"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16524066-BF07-4BA8-B97C-5014AB9E8052}"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CB698FF5-0DDD-4741-8C57-B6CAE722CCAD}"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477663F5-3D9F-4D3C-A07F-07199B3BB07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B1D25413-3CFC-4B37-9D99-8467C8BAE20E}"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D88CF119-B512-44F7-867F-018306510A8F}"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444A817B-2DFC-4D8E-B5FD-974DF095ED2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8F014B48-F484-43F8-97BD-34B5B9F8C82E}"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4D561754-02FF-4BDA-8D6C-21B862C8609D}"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37F126F2-5C35-47D4-A7E1-811B1D48583C}"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B061DEB6-4A30-4A75-8BCA-9D2D015C82B4}"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5125C308-7201-4CCD-AE2B-FA90D242AC5F}"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80E03543-31C6-4BA7-B56B-37B4DC8EF4C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00A16A96-846E-4843-81F9-3019F1C5311C}"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BDDD5B11-A1A8-4EBF-9B07-583CFB08F6FD}"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D68AF2FD-F6D7-42E5-84AC-F64521C66DF4}"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1D170E79-2039-4C8F-A566-4E304D0DF2A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D096A312-A78A-419F-9FA4-25272715DA61}"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65D29F30-31EA-4530-99B0-A3CAA07ABCAA}"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D7D052EA-BCBC-49A3-A635-573D347D5980}"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00884180-3565-4161-ADE2-0899279CB541}"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D1683306-2DED-433A-ACFC-946BB15ACC19}"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66D3C6FD-F92B-432F-ADB0-62449EFD992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2C599C26-117F-429D-AB08-57B9D6D10946}"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37AE379F-F6EE-4A75-A8AC-E55E6C816349}"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C714BDBC-D1B3-4B25-97F4-A6C1494AF1FF}"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2A7C8D48-371A-4711-AA85-A743C91C4EA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FD46C98C-BBC4-4E3D-A0B4-7EA234260FB9}"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E10B34AC-9AD1-4A20-8B97-2CCA04EF8938}"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F61371EF-494E-46A7-B760-C45011E74ABB}"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71870912-4214-4EF4-8F21-A73D2368AE16}"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9899B2EB-82BA-4DD4-9CF2-691FA890978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A2A4BC-074B-4BBA-8A9B-E040FEEBE8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666BA2D-65A4-4E0C-A9D5-3CE31F9D08D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1491AF0-D9F3-4251-98B4-1CB33ED5459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F746984-1CD9-4D53-97A3-6128EFADD53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F5765FF-782A-4ECB-9D55-E7ABA64F5CF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9E27D60-CFAB-4CF3-ACFC-D3673363312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95A1451-2B12-4F2B-86AF-8EDD8D9105E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87CB72E-0B41-4320-B0D0-F1625CD17FA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F3805AD-5703-422F-B82D-1468CD7E8EA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75071B2-B812-42AA-8DC1-4AFAA4D96F2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D5FAA5E-8593-4AE4-944A-B08DA26754D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4F2FA4EE-BC8C-4D9D-8AE7-E75DDC3802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D59CD33F-3803-4E4B-B24D-6A0631E3D6E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FE5A6FB6-4914-431B-B55F-68B70994462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4AC1141-0997-466B-A12E-53D86A9276B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8D054D7-06FE-4827-B85E-D5E8CB1E44A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42370A0-D4BD-4FAE-91D7-F6D16241C19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C32719F-A7A8-419A-B100-3B73F9DF306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98B2A522-FF9D-479B-A633-80B2CB498F4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1B3D162F-422E-4CA1-9296-AB5DC01E0C0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C375211-6CFD-4884-B1FB-B641A9957F5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151DC0E-14EF-40DF-9628-21DCCB37310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877BAF8-8479-4439-ABAD-7003C6C976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42C2E4B-EDDF-43A2-BC08-487062D9CA8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7A171C5-C235-4988-8485-1D326E74853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A73582C-7D97-47D7-B656-3FFC5D31FCF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5B71372-587B-45D6-BD83-25395C55696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4CBA1B0-9F51-49C7-BB72-FBFC0C8D91F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3489453-A5CC-4765-8F9E-1B967A4A30B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C47D7D3-C67B-40E6-AE96-DD905E344CE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6408FA63-97FE-4320-BFA4-E82AD49C769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A1DF8EC-481F-40A2-8ECC-34C93A2662C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3F055D31-B7F9-45AD-981F-2880A6FDEA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4B0D88D-C842-462B-810B-D2B90878E20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DE4BDBF-6152-4282-A40A-6933BAD86E6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51D93FE-E007-4EBB-A2A5-A589616D546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0A6AEF5-3920-4B1D-8D8D-1071CC492ED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EB6A0CA-0A78-4895-927D-7D428CFE6A6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7D16BD3-EE17-4E3B-8D1B-717412D4C29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997FAC65-6545-41EF-A3E6-3234F1BA59F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67D9D6A5-BE67-4D9C-A881-4C47514086A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3493A46-F6DB-4FF5-8DC2-6678CE1C7E1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50CFA21-AED4-4570-AAB9-00725EED69B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CF62908-F880-41A2-AD9D-706585AC41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732A-D43D-4CD6-85FE-1D5BF22F8C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0590-1738-4BF1-9481-19BE197125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5D94-8B53-4CE1-B1BE-E791F6625E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1D1D-AF7D-41D7-AF75-424399C035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864A-9D5C-45F5-BB95-3CA757A410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06B6-F11D-4ED8-847F-763BD788FD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AF31-18C2-427F-A446-C816457A5C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B2C7-917D-4D7B-9C23-99193ACC02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8367-F7A4-43CC-859B-064611CC9399}"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2E0A-8DFD-4C3B-8D79-A2DAB3A073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F330-F825-47B5-9D1B-411FF1F6E8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612C-87AA-4ACB-B002-CECAE191F4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A900-15CC-444A-8CAD-CCF7EAB397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87B6-6E3E-48A1-8F77-79A8312CC5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CEEC-3F4B-4837-9683-DD3837779B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C067-FFF9-4E4F-A163-1BD77EA4AF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034D-CDA9-4BA9-A741-C30412FC39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C513-7F91-406C-8A6E-C0D284191B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6758-CBCB-4F0B-B27D-1897F691BC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94B4-954A-4B72-A819-041DC60A7EC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E58F-EBA7-4B68-8423-EFC2ED3D08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C171-EFCE-40FE-9E88-27A9E65FB2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805A-A3AF-42FB-9A56-B713AE30B1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4415-0330-4BDF-B9CD-8527765CB7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DD16-A8B3-4DD5-8860-344D8BFE8C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C25FC-BE8C-4502-B65A-9B194DAA22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99C3-BD39-4142-BC52-A7419FCD7A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452F-F8BB-4F64-87B0-22E4DF6399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0324-0A70-41D6-9A68-C530D73428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E67E-4F01-432E-9C9E-9F29A329D2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2349-0D00-4E14-A9A3-94D971321D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A402-4742-4B12-929F-606D72D59BB3}"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477F-DF03-4D32-9762-4192BB8690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7536-5623-465B-B0A7-A585E02FA1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4B11-D73D-4808-A7F4-A018EB2F471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825F-78CD-49FF-9B66-C233B212147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1EA1-FD25-4300-B658-F50010FEAEE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68B2E-A15A-40BA-86C6-A98E8040A86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